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A07-E496-4D76-8510-C4084E95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9F8-B121-4E87-BF31-AAEA3B4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807-EA4B-4107-B5D3-A08DA4D1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A80-C68F-4162-8C3D-2A2A8FFA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54E-BB74-4DD2-8BBC-5997E825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E10-065B-4561-85B4-0070EF24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62C-BE76-49D2-812D-B4D4E1B7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085-0469-4FB9-A804-56F9328E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EAC-8147-469E-AB39-393DEA54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FD3-8D3B-4661-A84A-7358BAF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A5A-8ACA-48F5-84F8-11E03E3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812-476F-4D6A-983C-3CC9D85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051E-9C7E-4CA3-8250-AB03D8C7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 Their  They’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actice Senten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)  Where did _____________ dog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)  I have ______________ phone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)  Can we go ______________ after lun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)  I want to go to the party, but I don’t know how to get 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o they think _______________ foo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 Give the students ____________ grad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 ________________ looking at me in a funny w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)  Can we go to _____________ ho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)  Put the garden hose over _______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)  Who is _______________ moth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)  Where did _______________ coats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 ______________ going to have fun at the movie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47:08Z</dcterms:created>
  <dc:creator>BPS</dc:creator>
  <dc:description/>
  <dc:language>en-US</dc:language>
  <cp:lastModifiedBy>BPS</cp:lastModifiedBy>
  <dcterms:modified xsi:type="dcterms:W3CDTF">2009-12-08T15:50:38Z</dcterms:modified>
  <cp:revision>7</cp:revision>
  <dc:subject/>
  <dc:title>There  Their  They’re</dc:title>
</cp:coreProperties>
</file>